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07600" cy="7740650"/>
  <p:notesSz cx="7740650" cy="10007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1D75-0A14-4710-B1F9-B988E8EA9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91BE-C22F-4D99-8518-27AFE613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EB60-0C0C-48E4-982F-4CBFBDC25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259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23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916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259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23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AD29-CC7B-426A-ACDF-80658C337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A03E-8C67-4DB8-A7F5-B8914C7C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0CCC-28AC-4EE1-85CD-422C24D1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A1D9-60BD-4149-826D-D0B21872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B39C-DE3D-4996-9C9B-37B44F7B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9160" y="686880"/>
            <a:ext cx="850752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9A30-B216-4DD0-9F8E-D0DE0884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7CDB-69CB-411C-B0EA-C9DBF138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71D6-B6E2-4E57-BF5D-3363BD62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807A-2603-4B15-9F06-7A7F06C6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8800" y="7051320"/>
            <a:ext cx="208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17840" y="7051320"/>
            <a:ext cx="317016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72280" y="7051320"/>
            <a:ext cx="2084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A658-6D0B-4C88-B7F4-07731B3BE950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360" y="0"/>
            <a:ext cx="9998280" cy="3659040"/>
          </a:xfrm>
          <a:custGeom>
            <a:avLst/>
            <a:gdLst/>
            <a:ahLst/>
            <a:rect l="l" t="t" r="r" b="b"/>
            <a:pathLst>
              <a:path w="6298" h="2305">
                <a:moveTo>
                  <a:pt x="0" y="0"/>
                </a:moveTo>
                <a:lnTo>
                  <a:pt x="0" y="2305"/>
                </a:lnTo>
                <a:lnTo>
                  <a:pt x="6298" y="2305"/>
                </a:lnTo>
                <a:lnTo>
                  <a:pt x="6298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95280" y="1040040"/>
            <a:ext cx="8585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OS/2 Road Map to e-busines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6120" y="4148280"/>
            <a:ext cx="852804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7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Transition Dynamic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467480" y="5823000"/>
            <a:ext cx="179568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151000" y="5746680"/>
            <a:ext cx="1917720" cy="743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246640" y="5419800"/>
            <a:ext cx="847800" cy="132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45120" y="5349960"/>
            <a:ext cx="12060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0760" y="1595520"/>
            <a:ext cx="853632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Year Pl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t and Services Pla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rchase Model Chan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look After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abling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ect on OS/2 Busin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customer cho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46200" y="576900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ardware and Device Driver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6200" y="6107040"/>
            <a:ext cx="8393040" cy="34452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intenance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46200" y="644364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ice Extension (SE) &amp; Total Content Offering (TCO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54120" y="5442120"/>
            <a:ext cx="8400960" cy="344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Java and Migration Tools and Servi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36840" y="531036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08040" y="6794640"/>
            <a:ext cx="8285400" cy="758520"/>
          </a:xfrm>
          <a:prstGeom prst="rightArrow">
            <a:avLst>
              <a:gd name="adj1" fmla="val 50000"/>
              <a:gd name="adj2" fmla="val 273078"/>
            </a:avLst>
          </a:prstGeom>
          <a:gradFill rotWithShape="0">
            <a:gsLst>
              <a:gs pos="0">
                <a:srgbClr val="ffb672"/>
              </a:gs>
              <a:gs pos="50000">
                <a:srgbClr val="ffffff"/>
              </a:gs>
              <a:gs pos="100000">
                <a:srgbClr val="ffb672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200480" y="1410840"/>
            <a:ext cx="0" cy="387828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991200" y="1411200"/>
            <a:ext cx="0" cy="388152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36840" y="139212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duct and Services P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31800" y="1521000"/>
            <a:ext cx="250380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-business enableme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D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 NT Client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SoD Server /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t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d flex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1514520"/>
            <a:ext cx="2481120" cy="38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e-business investment protection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Cross Platform 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48600" y="1535040"/>
            <a:ext cx="2206440" cy="32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Client platform independenc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Java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Server platform independen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arp Server for e-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urchase Model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1452600"/>
            <a:ext cx="8535960" cy="63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1.1.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4.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2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5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Sphere 3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rp Server for e-business enhancements (TCP/IP, LDAP..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Space On-Demand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 Off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business transformation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ice extensions, Total Content Offe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stom enhanc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22520" y="5438880"/>
            <a:ext cx="3862440" cy="11700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22520" y="4826160"/>
            <a:ext cx="38545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4880" y="3032280"/>
            <a:ext cx="1251000" cy="173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68480" y="4340160"/>
            <a:ext cx="2613240" cy="42408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70440" y="3038400"/>
            <a:ext cx="1495440" cy="12589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24520" y="5435640"/>
            <a:ext cx="3778200" cy="11682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27760" y="4827600"/>
            <a:ext cx="37861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19840" y="4221000"/>
            <a:ext cx="1917720" cy="5828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3040200"/>
            <a:ext cx="3728880" cy="1741320"/>
          </a:xfrm>
          <a:custGeom>
            <a:avLst/>
            <a:gdLst/>
            <a:ahLst/>
            <a:rect l="l" t="t" r="r" b="b"/>
            <a:pathLst>
              <a:path w="2349" h="1097">
                <a:moveTo>
                  <a:pt x="0" y="731"/>
                </a:moveTo>
                <a:lnTo>
                  <a:pt x="0" y="0"/>
                </a:lnTo>
                <a:lnTo>
                  <a:pt x="2349" y="0"/>
                </a:lnTo>
                <a:lnTo>
                  <a:pt x="2349" y="1097"/>
                </a:lnTo>
                <a:lnTo>
                  <a:pt x="1218" y="1097"/>
                </a:lnTo>
                <a:lnTo>
                  <a:pt x="1218" y="731"/>
                </a:lnTo>
                <a:lnTo>
                  <a:pt x="0" y="73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94560" y="3246480"/>
            <a:ext cx="219384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Appl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GUI / XML / 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8720" y="3063960"/>
            <a:ext cx="1046160" cy="123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nabling Platform Indepen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27440" y="3446640"/>
            <a:ext cx="119376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Web Sv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13320" y="1935360"/>
            <a:ext cx="7652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tion Framework for e-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ffect on OS/2 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0760" y="1569960"/>
            <a:ext cx="9021960" cy="57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cted marketplace tren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server consolid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emphasis on Windows 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ing emphasis on Linu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reasing emhasi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migrate to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ustry-wide support (incl. IB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ailability of skills and resour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exploit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own stability characteristi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te IBM software sta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ustomer Choices In Three Y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50760" y="1477800"/>
            <a:ext cx="8536320" cy="62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e-business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T, Linux primary choices on Int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ader hardware/software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operating system is "free"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proprietary model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ces engagements on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expensive and disrup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50760" y="1622520"/>
            <a:ext cx="853632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deliver e-business enablement for OS/2 for at least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 is required to make the transform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provide e-business transformation services for OS/2 and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 framework for e-business and IBM middleware will enable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of e-business exploitation on OS/2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fundamentally support customer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